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992505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200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-360"/>
            <a:ext cx="430236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49720" y="514440"/>
            <a:ext cx="34272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200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513120"/>
            <a:ext cx="430236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332D-8656-48EB-A3B0-ED17DACC5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56228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756D-FBC4-4F42-BB66-195925E13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49720" y="514440"/>
            <a:ext cx="3427200" cy="25718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56228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E69C-4D8A-4CA1-907B-2C9EFCB6B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3249720" y="514440"/>
            <a:ext cx="3427200" cy="25718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5B7-A03C-47D3-AFAC-D4738C6D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72C-04A2-4376-925D-CC3A2B69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6B9-58CB-428E-B8C9-6CD0F9B7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70A-373D-4AB9-9D61-E22831CF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B240-848C-458E-8B20-740BD4C8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0CA-BA24-4ED8-96FC-4323CAB9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A643-CE1B-4748-9A44-847764E5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806B-2286-4D13-9AE8-B5707B21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A04-53C4-442D-9555-D55204AF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5D7-110A-4626-8CD5-BAB3E25F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38B8-39D5-4605-A1A5-50139E39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644-D114-45F4-B1E5-F67D851C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22AE-F0A2-4ACA-A956-08C0DE0B5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4" descr="EN-WCDR-logo-RGB.jpg"/>
          <p:cNvPicPr/>
          <p:nvPr/>
        </p:nvPicPr>
        <p:blipFill>
          <a:blip r:embed="rId1"/>
          <a:stretch/>
        </p:blipFill>
        <p:spPr>
          <a:xfrm>
            <a:off x="0" y="328680"/>
            <a:ext cx="2717640" cy="1419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1116000" y="2336760"/>
            <a:ext cx="69120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723960" y="2060640"/>
            <a:ext cx="79912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WORLDWIDE INITIATIVE FOR SAFE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oadmap from Istanbul to Sendai and 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dolcemascolo\Pictures\header-ban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30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971960" y="-349560"/>
            <a:ext cx="2955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8174160" y="3885840"/>
            <a:ext cx="4897440" cy="16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-11990520" y="-1324080"/>
            <a:ext cx="74898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complete the assessment and review of the implementation of the Hyogo Framework for Actio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consider the experience gained through the regional and national strategies/institutions and plans for disaster risk reduction and their recommend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well as relevant regional agreements under the implementation of the Hyogo Framework for Actio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opt a post-2015 framework for disaster risk reductio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dentify modalities of cooperation based on commitments to implement a post-2015 framework for disaster risk reductio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determine modalities for periodic review of the implementation of a post-2015 framework for disaster risk redu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 4" descr="EN-WCDR-logo-RGB.jpg"/>
          <p:cNvPicPr/>
          <p:nvPr/>
        </p:nvPicPr>
        <p:blipFill>
          <a:blip r:embed="rId1"/>
          <a:stretch/>
        </p:blipFill>
        <p:spPr>
          <a:xfrm>
            <a:off x="12600" y="44280"/>
            <a:ext cx="175104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dolcemascolo\Pictures\header-band.png"/>
          <p:cNvPicPr/>
          <p:nvPr/>
        </p:nvPicPr>
        <p:blipFill>
          <a:blip r:embed="rId2"/>
          <a:stretch/>
        </p:blipFill>
        <p:spPr>
          <a:xfrm>
            <a:off x="-20520" y="-27000"/>
            <a:ext cx="9144000" cy="130320"/>
          </a:xfrm>
          <a:prstGeom prst="rect">
            <a:avLst/>
          </a:prstGeom>
          <a:ln w="0">
            <a:noFill/>
          </a:ln>
        </p:spPr>
      </p:pic>
      <p:sp>
        <p:nvSpPr>
          <p:cNvPr id="57" name="Content Placeholder 2"/>
          <p:cNvSpPr/>
          <p:nvPr/>
        </p:nvSpPr>
        <p:spPr>
          <a:xfrm>
            <a:off x="457200" y="1166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tent Placeholder 2"/>
          <p:cNvSpPr/>
          <p:nvPr/>
        </p:nvSpPr>
        <p:spPr>
          <a:xfrm>
            <a:off x="826920" y="2421000"/>
            <a:ext cx="7724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plans towards safe schools in respective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to engage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ance to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457200" y="917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luntary Commitments to the Worldwide Initiative for Safe Schoo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 4" descr="EN-WCDR-logo-RGB.jpg"/>
          <p:cNvPicPr/>
          <p:nvPr/>
        </p:nvPicPr>
        <p:blipFill>
          <a:blip r:embed="rId1"/>
          <a:stretch/>
        </p:blipFill>
        <p:spPr>
          <a:xfrm>
            <a:off x="27000" y="44280"/>
            <a:ext cx="2509920" cy="13114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50920" y="1268280"/>
            <a:ext cx="88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835280" y="1557360"/>
            <a:ext cx="56181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C:\Users\dolcemascolo\Pictures\header-band.png"/>
          <p:cNvPicPr/>
          <p:nvPr/>
        </p:nvPicPr>
        <p:blipFill>
          <a:blip r:embed="rId2"/>
          <a:stretch/>
        </p:blipFill>
        <p:spPr>
          <a:xfrm>
            <a:off x="-20520" y="-27000"/>
            <a:ext cx="9144000" cy="130320"/>
          </a:xfrm>
          <a:prstGeom prst="rect">
            <a:avLst/>
          </a:prstGeom>
          <a:ln w="0">
            <a:noFill/>
          </a:ln>
        </p:spPr>
      </p:pic>
      <p:sp>
        <p:nvSpPr>
          <p:cNvPr id="64" name="Content Placeholder 2"/>
          <p:cNvSpPr/>
          <p:nvPr/>
        </p:nvSpPr>
        <p:spPr>
          <a:xfrm>
            <a:off x="5904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objectives and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sharing of good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targets based on respective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sive support from developmen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45720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s of the Roa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 4" descr="EN-WCDR-logo-RGB.jpg"/>
          <p:cNvPicPr/>
          <p:nvPr/>
        </p:nvPicPr>
        <p:blipFill>
          <a:blip r:embed="rId1"/>
          <a:stretch/>
        </p:blipFill>
        <p:spPr>
          <a:xfrm>
            <a:off x="27000" y="44280"/>
            <a:ext cx="1592280" cy="831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dolcemascolo\Pictures\header-ban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303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ys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250920" y="1557360"/>
            <a:ext cx="8893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me the roadmap – e.g. The “Istanbul Roadmap” on School Safe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sting the next meeting (January 201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afting the Worldwide Initiative Roadm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genda and attendance for the launch of the Worldwide Initiative at the Third UN World Conference on Disaster Risk Reduction, 14-18 March 2015 in Sendai Jap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8:42:59Z</dcterms:created>
  <dc:creator>Administrator</dc:creator>
  <dc:description/>
  <dc:language>en-US</dc:language>
  <cp:lastModifiedBy>ROSE</cp:lastModifiedBy>
  <cp:lastPrinted>2014-10-31T06:44:36Z</cp:lastPrinted>
  <dcterms:modified xsi:type="dcterms:W3CDTF">2014-11-11T16:16:32Z</dcterms:modified>
  <cp:revision>211</cp:revision>
  <dc:subject/>
  <dc:title>Slide 1</dc:title>
</cp:coreProperties>
</file>